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8FE-146C-47DA-8E8C-A237884F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92C-69CA-43BE-9F1C-356D51B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8C5-C1D6-4200-998E-1AF25D11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D05-757B-4829-9451-E98607A0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651-3111-4FAC-B96D-3D9CF49A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588-EC88-419B-9D98-1D3E6AB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A09-5E5A-45C0-B203-2211C75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3A0-76D3-498C-8E36-E1A692E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4B-2F3C-4D89-BE10-393EEF61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093-8112-4AA5-BE07-6F453FF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F56-A790-40A1-8812-FEA0C0C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CA7-6561-4707-A560-3E0EAD1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747-DAD1-4090-951B-CBC3777FBF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8" descr="MRC-logo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E10F-8705-45E1-A6CF-3F0CA03FC8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1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1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A64-02BA-451E-9559-B9EC352550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FC13-09A1-454E-95C0-6DDD1B3B16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0B34-1472-42F6-9651-6BB62B39AC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C314-0321-455E-8F44-373E837E60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ED8-D6D5-4679-85C5-B766D8158B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F35B-E7A9-4E4D-9845-0388609E1B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BD07-F329-495D-9E15-9468A59159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A955-20B6-4E6B-A80E-041E0E37B2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4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640E-1C7B-4823-A8EC-F95F282627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7E4B-B6F1-43F4-92B6-C914022208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4862-E5E0-40D9-A45E-B801A8EEBD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 November 201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64F-2E04-4293-A01C-1B5ADBBF2D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14C4-AFFE-40A3-B6E8-E378719E35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6BA-316E-4AD5-B1A3-37516E9D73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8D8-B2D9-4DD0-A312-0E70918D1F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107-F8C2-49C3-A0B9-C49A63FD90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848C-529F-4542-BF5B-736D7CFC5B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197-5674-4D13-AEA5-6D49222B71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9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9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9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20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20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20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20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20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20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20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22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22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2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BB2-2523-40B6-8545-60C576FC40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A41-B040-4B19-80C1-E339460CF7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462-388B-4AA2-A0AE-38103C5CB8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CB30-CD73-450E-872E-C6450DDE84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FBC-C55B-4B72-8F0B-13116E0F58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F9AD-574B-49FD-BE89-260DE2B0C6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FBA1-1B9E-40D9-8904-FF94E7A63E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E744-DB69-4AC2-893A-5259BD8BE0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6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8E1-0E77-4D3F-8030-D32CC40F7A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AA6-F308-4EE1-BCF5-D27BFDD7D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F9D-86EC-493A-94F7-62D8155DA6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BB0-6A1D-4F56-AF76-6792E79E67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7C6-AE61-4168-80AC-3B37F68F48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4A85-8242-44FB-BB21-812A329EC0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C95-19DF-4B3F-9B00-9868967F6D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4030-3C3C-4F5D-BD15-4B9A6888BD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CD3-D564-4246-91A3-68C2D1AD8B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C20-03C7-4985-BFBF-7B5956241C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79B-76C6-4670-AAA4-FCA9A733B3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CCA2-589F-452F-A181-18902B010A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3531-2F91-4B25-AB9E-406F11AE08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C11-4932-4F9D-BD9E-DEA7C5E9AD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35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017E-B82C-4A1C-8341-159DFE67CA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EC37-94E0-4420-A1CC-EC87F3123E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36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1924-6D83-418D-AA70-706904B3A7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37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CC2-13DC-4911-9726-169414AF85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EC99-6F53-4C5C-A8D5-2C42162F04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B836-75F8-4058-A1D7-2D2378BE9F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FB8-D805-4964-A798-F52253B0B9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C9F-7946-49C0-9ECD-78AF4D7911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D56-DD92-4E8D-8E35-48AEFD670F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E3A1-EA89-491F-B1E9-CEC037F944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EDB-89ED-418E-8F39-6FBE234960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D4C-BCA7-43E0-9A57-FEAF3BEE69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4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41E9-60B6-473C-B84E-8B6029048F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11am on Thursday 10 November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9CB-E718-4200-9B92-3377F27791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B26D-574F-4E5F-BCEC-DAE0C632C2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163-BAD6-4685-903A-CA35825A1F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941-51CA-4EDF-873A-61260D073C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1-10-20T13:25:47Z</dcterms:modified>
  <cp:revision>83</cp:revision>
  <dc:subject/>
  <dc:title>Aims and Objectives</dc:title>
</cp:coreProperties>
</file>